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243-7065-4A3D-B2CB-CA7A3B7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EF9-9BA9-4239-8623-2F13279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1C8-B8EB-4BB4-A7B8-7E9EA87E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F42-DD8D-4C0E-9394-2F191F92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FAB-3EBB-4025-A91E-566BB7C3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67A-790E-433E-B18B-3175F5B2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A6D-5E79-46E1-A53A-DE754B9F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15C-9B07-4692-953F-AA3A9A0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CA0-EBDB-4D51-8249-5F60262E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143-A047-465D-AFE9-40A1FF4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DF0-6155-4E56-8D2B-DE7ACD6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FF2-B448-46B4-80F1-AC9918F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5D2E-A142-4D26-A429-805B30141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 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6476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A ______ is mountain made up of layers of lava and 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Heav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e _____________ is a chain or ring of volcanoes around the pacific ocean created by converg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anklin Gothic Dem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Iceland formed at ______  boundary where plates are spread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ormed over a _____ 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waiian Island chain formed as the ______ plate moved over the stationary_____ 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 Saint Helens formed above a subduction zone at a ________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2971800"/>
            <a:ext cx="19051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of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6553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s silica content increases, magma tends to have a thicker or greater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magma is a very fluid easy flowing, low viscosity magma which can travel great  di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magma is a thick, high viscosity which has a high resistance to flow because of its high  silica le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a with low levels of silica and a low gas content will travel large distances and create flat ____ Volc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971800"/>
            <a:ext cx="18288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oli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6553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he 3 places we find volcanoes are at _______ boundaries, ______ boundaries, and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________is located at a________plate boundary, here two plates are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luid, Low viscosity lava with low levels of silica will travel large distances, creating a gentle flat sloping ______vol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agma or lava with more silica tends to have greater 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2133720"/>
            <a:ext cx="175248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al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Saint He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c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canoes are classified into 3 types; _______  cone, ______ cone, and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Volcanoes erupt violently, and _______; while Shield volcanoes erupt quietly and non-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 volcanoes have _______ sided slopes; while Shield volcanoes have ______, gentle sl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Large shield volcanoes are made of layers of ______, giving them _______, gently sloping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   Mt. _____  _____ is an example of a composite volc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133720"/>
            <a:ext cx="259092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xplo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nt He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ames of the 3 volcanoes ab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most explos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least explos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the steep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an example of Mt. Saint Helens Washing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volcano is an example of Hawa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3353040" cy="121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1981080" cy="119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400800" y="838080"/>
            <a:ext cx="2057400" cy="125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1447920"/>
            <a:ext cx="716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                                B                          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133720"/>
            <a:ext cx="23623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der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C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9:04:54Z</dcterms:created>
  <dc:creator>jfuller</dc:creator>
  <dc:description/>
  <dc:language>en-US</dc:language>
  <cp:lastModifiedBy>jfuller</cp:lastModifiedBy>
  <dcterms:modified xsi:type="dcterms:W3CDTF">2011-12-01T19:05:31Z</dcterms:modified>
  <cp:revision>1</cp:revision>
  <dc:subject/>
  <dc:title>Volcano Make up Bellwork</dc:title>
</cp:coreProperties>
</file>